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C505-8869-4161-8FA9-4724B74F949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A847-E6B4-422E-9DAA-CBFD6D56255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92FF-D485-4ECE-8B86-35B3BA3919B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EF99-D5C0-4427-BCF5-527358C6B9A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A782-6B21-4943-AD21-94108B3BC38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4A4A-CEB1-42F5-840E-7FDA63A956F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5D43-2813-490A-B0EF-E1E3026A845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8B02-DE65-4C41-9C63-1CCFF65D76C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FE9-3A28-4860-BFF9-EE3B9AFB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725-D4D6-4300-A782-B5A64008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A1C-868D-4DF6-80F9-79BCAB26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E93-9F6E-4ECE-88A1-3EBB483C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0AD-84C3-45EF-BA7B-05AF5918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FA9-B0C6-45CE-9105-EB62414C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2D6-F680-4268-91B0-D818F970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401-0293-4372-A93B-BAA17D20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BD9-367E-44C4-8BF6-5C0F5615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359-A3A8-4070-8DD5-20DE2BB8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49B-2D11-427D-AE4B-6275BBA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132-1A6F-4AF9-AC3E-EC1C2368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ttp://mx.wrs.yahoo.com/_ylt=A0S0zu.uAkZOazsAyXDO8Qt./SIG=12tsorifs/EXP=1313239854/**http%3a/simplywallpaper.net/pictures/2010/12/08/aqua-texture-wallpaper.jpg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AF44-97BE-4F4B-B6D4-8F8D4B3E7E5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5 Marcador de número de diapositiva"/>
          <p:cNvSpPr/>
          <p:nvPr/>
        </p:nvSpPr>
        <p:spPr>
          <a:xfrm>
            <a:off x="6759720" y="62326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b7dee8"/>
                </a:solidFill>
                <a:latin typeface="Arial"/>
              </a:rPr>
              <a:t>Presentación elaborada por Enrique Lepe Garc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00"/>
                </a:solidFill>
                <a:latin typeface="Calibri"/>
              </a:rPr>
              <a:t>Planificación de Proyectos Didácticos</a:t>
            </a:r>
            <a:endParaRPr b="1" lang="en-US" sz="4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84360" y="579132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ac090"/>
                </a:solidFill>
                <a:latin typeface="Calibri"/>
              </a:rPr>
              <a:t>Enrique Lepe García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2 Subtítulo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b0f0"/>
                </a:solidFill>
                <a:latin typeface="Calibri"/>
              </a:rPr>
              <a:t>Con base en los programas de estudio de </a:t>
            </a:r>
            <a:r>
              <a:rPr b="1" lang="es-MX" sz="3600" spc="-1" strike="noStrike">
                <a:solidFill>
                  <a:srgbClr val="93cddd"/>
                </a:solidFill>
                <a:latin typeface="Calibri"/>
              </a:rPr>
              <a:t>Español 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00000"/>
                </a:solidFill>
                <a:latin typeface="Calibri"/>
              </a:rPr>
              <a:t>Pasos para planificar (1)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dentificar el “producto final” a elabora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Establecer las características del producto (con base en los productos de la vida real)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dentificar los propósitos: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Comunicativos (de la vida)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Didácticos (aprendizajes esperados, temas de reflexión)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00000"/>
                </a:solidFill>
                <a:latin typeface="Calibri"/>
              </a:rPr>
              <a:t>Pasos para planificar (2)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nalizar las “producciones del proyecto” (que constituyen las etapas del mismo)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iseñar actividades para cada “producción”: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Semejantes a las de la vida real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Usen textos auténtico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Secuenciadas lógicamente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Encaminadas al logro del producto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Que generen aprendizajes en los alumno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" name="3 Llamada de flecha a la izquierda"/>
          <p:cNvGrpSpPr/>
          <p:nvPr/>
        </p:nvGrpSpPr>
        <p:grpSpPr>
          <a:xfrm>
            <a:off x="6388200" y="3687840"/>
            <a:ext cx="2414520" cy="2054160"/>
            <a:chOff x="6388200" y="3687840"/>
            <a:chExt cx="2414520" cy="2054160"/>
          </a:xfrm>
        </p:grpSpPr>
        <p:pic>
          <p:nvPicPr>
            <p:cNvPr id="58" name="3 Llamada de flecha a la izquierda" descr=""/>
            <p:cNvPicPr/>
            <p:nvPr/>
          </p:nvPicPr>
          <p:blipFill>
            <a:blip r:embed="rId1"/>
            <a:stretch/>
          </p:blipFill>
          <p:spPr>
            <a:xfrm>
              <a:off x="6388200" y="3687840"/>
              <a:ext cx="241452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251840" y="3716280"/>
              <a:ext cx="149688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alibri"/>
                </a:rPr>
                <a:t>Prácticas sociales del lenguaj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7139160" cy="4079880"/>
          </a:xfrm>
          <a:prstGeom prst="rect">
            <a:avLst/>
          </a:prstGeom>
          <a:ln w="0">
            <a:noFill/>
          </a:ln>
        </p:spPr>
      </p:pic>
      <p:grpSp>
        <p:nvGrpSpPr>
          <p:cNvPr id="61" name="3 Llamada rectangular redondeada"/>
          <p:cNvGrpSpPr/>
          <p:nvPr/>
        </p:nvGrpSpPr>
        <p:grpSpPr>
          <a:xfrm>
            <a:off x="5546880" y="3255840"/>
            <a:ext cx="2712960" cy="2059200"/>
            <a:chOff x="5546880" y="3255840"/>
            <a:chExt cx="2712960" cy="2059200"/>
          </a:xfrm>
        </p:grpSpPr>
        <p:pic>
          <p:nvPicPr>
            <p:cNvPr id="62" name="3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5546880" y="3255840"/>
              <a:ext cx="271296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651640" y="4267080"/>
              <a:ext cx="2509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alibri"/>
                </a:rPr>
                <a:t>Identificar el producto fin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4 Rectángulo redondeado"/>
          <p:cNvGrpSpPr/>
          <p:nvPr/>
        </p:nvGrpSpPr>
        <p:grpSpPr>
          <a:xfrm>
            <a:off x="5546880" y="5273640"/>
            <a:ext cx="2822400" cy="1548000"/>
            <a:chOff x="5546880" y="5273640"/>
            <a:chExt cx="2822400" cy="1548000"/>
          </a:xfrm>
        </p:grpSpPr>
        <p:pic>
          <p:nvPicPr>
            <p:cNvPr id="65" name="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546880" y="5273640"/>
              <a:ext cx="28224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675400" y="5372280"/>
              <a:ext cx="25700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alibri"/>
                </a:rPr>
                <a:t>¿Cómo es el producto en la vida real? ¿Qué características tie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5 Flecha abajo"/>
          <p:cNvSpPr/>
          <p:nvPr/>
        </p:nvSpPr>
        <p:spPr>
          <a:xfrm>
            <a:off x="6659640" y="5157720"/>
            <a:ext cx="57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7 Rectángulo redondeado"/>
          <p:cNvGrpSpPr/>
          <p:nvPr/>
        </p:nvGrpSpPr>
        <p:grpSpPr>
          <a:xfrm>
            <a:off x="2792520" y="5273640"/>
            <a:ext cx="2827080" cy="1548000"/>
            <a:chOff x="2792520" y="5273640"/>
            <a:chExt cx="2827080" cy="1548000"/>
          </a:xfrm>
        </p:grpSpPr>
        <p:pic>
          <p:nvPicPr>
            <p:cNvPr id="69" name="7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2792520" y="5273640"/>
              <a:ext cx="2827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914560" y="5372280"/>
              <a:ext cx="257040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2060"/>
                  </a:solidFill>
                  <a:latin typeface="Calibri"/>
                </a:rPr>
                <a:t>PROPÓSITO COMUNICATIV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alibri"/>
                </a:rPr>
                <a:t>¿Para qué sirve en la vida real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8 Rectángulo redondeado"/>
          <p:cNvGrpSpPr/>
          <p:nvPr/>
        </p:nvGrpSpPr>
        <p:grpSpPr>
          <a:xfrm>
            <a:off x="6480" y="5237280"/>
            <a:ext cx="2822400" cy="1554120"/>
            <a:chOff x="6480" y="5237280"/>
            <a:chExt cx="2822400" cy="1554120"/>
          </a:xfrm>
        </p:grpSpPr>
        <p:pic>
          <p:nvPicPr>
            <p:cNvPr id="72" name="8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6480" y="5237280"/>
              <a:ext cx="282240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30320" y="5338800"/>
              <a:ext cx="2571480" cy="12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00000"/>
                  </a:solidFill>
                  <a:latin typeface="Calibri"/>
                </a:rPr>
                <a:t>PROPÓSITO DIDÁCT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4" name="9 Conector recto de flecha"/>
          <p:cNvCxnSpPr/>
          <p:nvPr/>
        </p:nvCxnSpPr>
        <p:spPr>
          <a:xfrm flipV="1">
            <a:off x="1415520" y="3212280"/>
            <a:ext cx="420120" cy="2056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5" name="11 Conector recto de flecha"/>
          <p:cNvCxnSpPr/>
          <p:nvPr/>
        </p:nvCxnSpPr>
        <p:spPr>
          <a:xfrm flipV="1">
            <a:off x="1415880" y="3364920"/>
            <a:ext cx="2004480" cy="1904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6" name="13 Flecha izquierda"/>
          <p:cNvSpPr/>
          <p:nvPr/>
        </p:nvSpPr>
        <p:spPr>
          <a:xfrm>
            <a:off x="5364000" y="5789520"/>
            <a:ext cx="432000" cy="463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5 Flecha izquierda"/>
          <p:cNvSpPr/>
          <p:nvPr/>
        </p:nvSpPr>
        <p:spPr>
          <a:xfrm>
            <a:off x="2627280" y="5757840"/>
            <a:ext cx="432000" cy="463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8280" y="2276640"/>
            <a:ext cx="7137720" cy="4081320"/>
          </a:xfrm>
          <a:prstGeom prst="rect">
            <a:avLst/>
          </a:prstGeom>
          <a:ln w="0">
            <a:noFill/>
          </a:ln>
        </p:spPr>
      </p:pic>
      <p:grpSp>
        <p:nvGrpSpPr>
          <p:cNvPr id="79" name="3 Llamada rectangular redondeada"/>
          <p:cNvGrpSpPr/>
          <p:nvPr/>
        </p:nvGrpSpPr>
        <p:grpSpPr>
          <a:xfrm>
            <a:off x="3139920" y="341280"/>
            <a:ext cx="2718000" cy="2901960"/>
            <a:chOff x="3139920" y="341280"/>
            <a:chExt cx="2718000" cy="2901960"/>
          </a:xfrm>
        </p:grpSpPr>
        <p:pic>
          <p:nvPicPr>
            <p:cNvPr id="80" name="3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3139920" y="341280"/>
              <a:ext cx="271800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254400" y="465120"/>
              <a:ext cx="248112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alibri"/>
                </a:rPr>
                <a:t>Analizar las producciones del proyec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4 Rectángulo redondeado"/>
          <p:cNvSpPr/>
          <p:nvPr/>
        </p:nvSpPr>
        <p:spPr>
          <a:xfrm>
            <a:off x="7020000" y="404640"/>
            <a:ext cx="1873080" cy="185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Diseñar actividades para cada pro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7 Rectángulo redondeado"/>
          <p:cNvSpPr/>
          <p:nvPr/>
        </p:nvSpPr>
        <p:spPr>
          <a:xfrm>
            <a:off x="7221600" y="2595600"/>
            <a:ext cx="1871640" cy="377352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3773520"/>
              <a:gd name="textAreaBottom" fmla="*/ 3682440 h 3773520"/>
            </a:gdLst>
            <a:ahLst/>
            <a:rect l="textAreaLeft" t="textAreaTop" r="textAreaRight" b="textAreaBottom"/>
            <a:pathLst>
              <a:path w="21600" h="43545">
                <a:moveTo>
                  <a:pt x="3600" y="0"/>
                </a:moveTo>
                <a:arcTo wR="3600" hR="3600" stAng="16200000" swAng="-5400000"/>
                <a:lnTo>
                  <a:pt x="0" y="39945"/>
                </a:lnTo>
                <a:arcTo wR="3600" hR="3600" stAng="10800000" swAng="-5400000"/>
                <a:lnTo>
                  <a:pt x="18000" y="43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Vida re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Textos autént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Secuenciadas lógica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Logro del produc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Generen aprendizaj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9 Conector recto de flecha"/>
          <p:cNvCxnSpPr/>
          <p:nvPr/>
        </p:nvCxnSpPr>
        <p:spPr>
          <a:xfrm flipH="1">
            <a:off x="5579640" y="1409760"/>
            <a:ext cx="1416960" cy="2164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5" name="11 Conector recto de flecha"/>
          <p:cNvCxnSpPr>
            <a:stCxn id="82" idx="1"/>
          </p:cNvCxnSpPr>
          <p:nvPr/>
        </p:nvCxnSpPr>
        <p:spPr>
          <a:xfrm flipH="1">
            <a:off x="5795640" y="1329840"/>
            <a:ext cx="1224720" cy="2531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6" name="16 Conector recto de flecha"/>
          <p:cNvCxnSpPr>
            <a:stCxn id="82" idx="1"/>
          </p:cNvCxnSpPr>
          <p:nvPr/>
        </p:nvCxnSpPr>
        <p:spPr>
          <a:xfrm flipH="1">
            <a:off x="5795640" y="1329840"/>
            <a:ext cx="1224720" cy="2988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7" name="17 Conector recto de flecha"/>
          <p:cNvCxnSpPr>
            <a:stCxn id="82" idx="1"/>
          </p:cNvCxnSpPr>
          <p:nvPr/>
        </p:nvCxnSpPr>
        <p:spPr>
          <a:xfrm flipH="1">
            <a:off x="6246360" y="1329840"/>
            <a:ext cx="774000" cy="33598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8" name="20 Flecha derecha"/>
          <p:cNvSpPr/>
          <p:nvPr/>
        </p:nvSpPr>
        <p:spPr>
          <a:xfrm>
            <a:off x="6012000" y="692280"/>
            <a:ext cx="863640" cy="7920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4 Flecha abajo"/>
          <p:cNvSpPr/>
          <p:nvPr/>
        </p:nvSpPr>
        <p:spPr>
          <a:xfrm>
            <a:off x="7740720" y="2255760"/>
            <a:ext cx="647640" cy="568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680" y="730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00000"/>
                </a:solidFill>
                <a:latin typeface="Calibri"/>
              </a:rPr>
              <a:t>Diseñar actividades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64992" t="0" r="0" b="0"/>
          <a:stretch/>
        </p:blipFill>
        <p:spPr>
          <a:xfrm>
            <a:off x="971640" y="1197000"/>
            <a:ext cx="2852640" cy="4656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003640" y="738360"/>
            <a:ext cx="3032280" cy="6005520"/>
          </a:xfrm>
          <a:prstGeom prst="rect">
            <a:avLst/>
          </a:prstGeom>
          <a:ln w="0">
            <a:noFill/>
          </a:ln>
        </p:spPr>
      </p:pic>
      <p:sp>
        <p:nvSpPr>
          <p:cNvPr id="93" name="5 CuadroTexto"/>
          <p:cNvSpPr/>
          <p:nvPr/>
        </p:nvSpPr>
        <p:spPr>
          <a:xfrm>
            <a:off x="1968840" y="602136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8043480" y="575460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8 Conector recto de flecha"/>
          <p:cNvCxnSpPr/>
          <p:nvPr/>
        </p:nvCxnSpPr>
        <p:spPr>
          <a:xfrm flipV="1">
            <a:off x="3347640" y="1412640"/>
            <a:ext cx="1656360" cy="12960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6" name="10 Conector recto de flecha"/>
          <p:cNvCxnSpPr/>
          <p:nvPr/>
        </p:nvCxnSpPr>
        <p:spPr>
          <a:xfrm flipV="1">
            <a:off x="3347640" y="2564640"/>
            <a:ext cx="1809000" cy="1436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00000"/>
                </a:solidFill>
                <a:latin typeface="Calibri"/>
              </a:rPr>
              <a:t>PLANIFICACIÓN DE PROYECTOS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2060"/>
                </a:solidFill>
                <a:latin typeface="Calibri"/>
              </a:rPr>
              <a:t>Ejercicios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04:48:45Z</dcterms:created>
  <dc:creator>Enrique Lepe</dc:creator>
  <dc:description/>
  <dc:language>en-US</dc:language>
  <cp:lastModifiedBy>Enrique Lepe</cp:lastModifiedBy>
  <dcterms:modified xsi:type="dcterms:W3CDTF">2011-08-13T05:51:32Z</dcterms:modified>
  <cp:revision>3</cp:revision>
  <dc:subject/>
  <dc:title>Planificación de Proyectos Didácticos</dc:title>
</cp:coreProperties>
</file>